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FFE-147C-4AC5-9CA3-BA217902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4B5-BDDB-4265-A7D3-F0FE57A8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D8D-9C0C-48A9-8A6D-786B9817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A26-3772-4576-A8BD-3FBEDBD6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261-1A9E-49DA-ABD0-E925F735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191-0507-458A-97E6-52CD8F95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FC97-042F-4371-990E-078F3CA7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3FE-28D1-4A2E-8310-8576EEE3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37E-6568-4069-8A48-7263BBD8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05C1-6400-4628-B704-57C87787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9CA-5611-4118-824F-A5DC9F58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A04F-B1C5-4CA5-A20E-10EE59E7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DE3E-B999-4EF3-9F52-9D66A186B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9999"/>
                </a:solidFill>
                <a:latin typeface="Arial"/>
              </a:rPr>
              <a:t>Me llamo _______  Clase 6nh(602)</a:t>
            </a:r>
            <a:br>
              <a:rPr sz="3900"/>
            </a:br>
            <a:r>
              <a:rPr b="0" lang="en-US" sz="3900" spc="-1" strike="noStrike">
                <a:solidFill>
                  <a:srgbClr val="009999"/>
                </a:solidFill>
                <a:latin typeface="Arial"/>
              </a:rPr>
              <a:t>La fecha es el 28 de enero del 2013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35: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para la prueba del próximo lu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3124080"/>
            <a:ext cx="3174840" cy="373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281952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2971800" y="47242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5486400"/>
            <a:ext cx="22860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35268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715000" y="41144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5791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6477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90560" y="6248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181480" y="2666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505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5546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3942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3886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44798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05720" y="62326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2860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6004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429000" y="533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095880" y="533520"/>
            <a:ext cx="2895840" cy="1314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2324160" cy="1743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743200" y="3505320"/>
            <a:ext cx="2724120" cy="2154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991120" y="3581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 flipV="1">
            <a:off x="8153280" y="3352680"/>
            <a:ext cx="7632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rbos de la “Bot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-changing verbs are also known as “BOOT” v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ee why; conjugate the verb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mpe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43560" y="3962520"/>
            <a:ext cx="16041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5720" y="4419720"/>
            <a:ext cx="1585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55080" y="4876920"/>
            <a:ext cx="15872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52720" y="396252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ez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52360" y="44197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ez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2440" y="4876920"/>
            <a:ext cx="160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2040" y="487692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79680" y="4876920"/>
            <a:ext cx="16880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5334120"/>
            <a:ext cx="533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334120"/>
            <a:ext cx="2666880" cy="16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3581280"/>
            <a:ext cx="3809880" cy="2667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3120" y="335268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…..it’s a BOOT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480" y="624852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 ONLY CHANGE WHAT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SID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HE BOO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Y IT AGAIN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ug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Jug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23840" y="274320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3840" y="49528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ne more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914400"/>
          <a:ext cx="6933960" cy="2590920"/>
        </p:xfrm>
        <a:graphic>
          <a:graphicData uri="http://schemas.openxmlformats.org/drawingml/2006/table">
            <a:tbl>
              <a:tblPr/>
              <a:tblGrid>
                <a:gridCol w="1206000"/>
                <a:gridCol w="1809000"/>
                <a:gridCol w="2064600"/>
                <a:gridCol w="1854360"/>
              </a:tblGrid>
              <a:tr h="647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uer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676520" y="3809880"/>
          <a:ext cx="6705000" cy="2667240"/>
        </p:xfrm>
        <a:graphic>
          <a:graphicData uri="http://schemas.openxmlformats.org/drawingml/2006/table">
            <a:tbl>
              <a:tblPr/>
              <a:tblGrid>
                <a:gridCol w="1166760"/>
                <a:gridCol w="1746720"/>
                <a:gridCol w="1819800"/>
                <a:gridCol w="1971720"/>
              </a:tblGrid>
              <a:tr h="666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4:04:01Z</dcterms:created>
  <dc:creator>Helen Zumaeta</dc:creator>
  <dc:description/>
  <dc:language>en-US</dc:language>
  <cp:lastModifiedBy>Helen Zumaeta</cp:lastModifiedBy>
  <dcterms:modified xsi:type="dcterms:W3CDTF">2013-01-28T01:54:09Z</dcterms:modified>
  <cp:revision>7</cp:revision>
  <dc:subject/>
  <dc:title>Me llamo _______      Clase 7IM La fecha es el 6 de enero del 2011</dc:title>
</cp:coreProperties>
</file>